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5960" y="3899160"/>
            <a:ext cx="8915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9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43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0600" y="91404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5240" y="91404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5960" y="389916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0600" y="389916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5240" y="389916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BEE-1ED2-40B3-A2F1-8475EABD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3B4-4697-4C77-9919-E91D3C2D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73C-A611-4706-B87D-DE3BD972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3D5-5355-451B-958E-AA832FC9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BCA-C6A7-4B87-A983-74241C3F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571-06AE-45B9-8729-0F59E411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59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5D7-DCE2-409D-8F7F-B2178200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43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849-FA30-4125-BB40-137FFBEF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960" y="3899160"/>
            <a:ext cx="8915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013-EAE6-431E-B04B-6A120828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960" y="3899160"/>
            <a:ext cx="8915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F63-FDD9-44D4-B5A0-C76EF217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9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43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A13-A819-4AD1-8C0B-2101F615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0600" y="91404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5240" y="91404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5960" y="389916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0600" y="389916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5240" y="389916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476-53CC-4387-98F0-546CBB7D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59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43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960" y="3899160"/>
            <a:ext cx="8915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76320" y="7632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440C-DF31-4EC3-9112-DC179865DE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Q-SMCmWB1s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fopLilIOe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6633"/>
                </a:solidFill>
                <a:latin typeface="Garamond"/>
              </a:rPr>
              <a:t>Life is Cellular</a:t>
            </a:r>
            <a:endParaRPr b="0" lang="en-US" sz="10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915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6 : Compare prokaryotic and eukaryotic cells in terms of their general structures and degree of complex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ypes Compared: Pro vs. E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Picture 4" descr="pro_eu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karyotic vs. Eukaryotic ce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ry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f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s://www.youtube.com/watch?v=RQ-SMCmWB1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ypes Compared: Pro vs. E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4" descr="pro eu flagellated"/>
          <p:cNvPicPr/>
          <p:nvPr/>
        </p:nvPicPr>
        <p:blipFill>
          <a:blip r:embed="rId1"/>
          <a:stretch/>
        </p:blipFill>
        <p:spPr>
          <a:xfrm>
            <a:off x="1066680" y="920880"/>
            <a:ext cx="7162920" cy="5865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ypes Compared: Auto vs. Het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ypes Compared: Auto vs. Het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9360" y="914400"/>
            <a:ext cx="9134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 to ce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s are the basic units of all living thin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living things are made of cells; however, cells could not be seen until the invention of the microscop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ton van Leeuwenhoek (1600s) invented the light microsc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00px-Anton_van_Leeuwenhoek"/>
          <p:cNvPicPr/>
          <p:nvPr/>
        </p:nvPicPr>
        <p:blipFill>
          <a:blip r:embed="rId1"/>
          <a:stretch/>
        </p:blipFill>
        <p:spPr>
          <a:xfrm>
            <a:off x="3505320" y="4419720"/>
            <a:ext cx="1904760" cy="204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ooke's Scope"/>
          <p:cNvPicPr/>
          <p:nvPr/>
        </p:nvPicPr>
        <p:blipFill>
          <a:blip r:embed="rId2"/>
          <a:stretch/>
        </p:blipFill>
        <p:spPr>
          <a:xfrm>
            <a:off x="5562720" y="4114800"/>
            <a:ext cx="33526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icroscope ty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579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und Light Microsco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larges an image with more than one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e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on Microsco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ch more power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beams of electrons to produce an image on a 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you will use in coll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ICRO-labeled"/>
          <p:cNvPicPr/>
          <p:nvPr/>
        </p:nvPicPr>
        <p:blipFill>
          <a:blip r:embed="rId1"/>
          <a:stretch/>
        </p:blipFill>
        <p:spPr>
          <a:xfrm>
            <a:off x="5791320" y="152280"/>
            <a:ext cx="3200400" cy="298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transmission-electron-microscope"/>
          <p:cNvPicPr/>
          <p:nvPr/>
        </p:nvPicPr>
        <p:blipFill>
          <a:blip r:embed="rId2"/>
          <a:stretch/>
        </p:blipFill>
        <p:spPr>
          <a:xfrm>
            <a:off x="5638680" y="3200400"/>
            <a:ext cx="2251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s are the basic units of living org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cells contain the follow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rane that defines the cell as a distinct 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tes what goes into and out of the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us or Nucleo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A-containing region of the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fluid matrix found between the plasma membrane and the nucl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s the organel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ible for translating DNA into prote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he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s developed from the observations of many scient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bert Hooke (166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cork under a micr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w empty cells in the c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o use the term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hias Schleiden (183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that all plants are made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dor Schwann (183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that all animals are made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dolph Virchow (185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that living things come only from the division of existing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ork cells"/>
          <p:cNvPicPr/>
          <p:nvPr/>
        </p:nvPicPr>
        <p:blipFill>
          <a:blip r:embed="rId1"/>
          <a:srcRect l="0" t="0" r="3297" b="0"/>
          <a:stretch/>
        </p:blipFill>
        <p:spPr>
          <a:xfrm>
            <a:off x="5943600" y="109440"/>
            <a:ext cx="3124080" cy="293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ell93"/>
          <p:cNvPicPr/>
          <p:nvPr/>
        </p:nvPicPr>
        <p:blipFill>
          <a:blip r:embed="rId2"/>
          <a:stretch/>
        </p:blipFill>
        <p:spPr>
          <a:xfrm>
            <a:off x="6324480" y="3200400"/>
            <a:ext cx="1309680" cy="1424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ell91"/>
          <p:cNvPicPr/>
          <p:nvPr/>
        </p:nvPicPr>
        <p:blipFill>
          <a:blip r:embed="rId3"/>
          <a:stretch/>
        </p:blipFill>
        <p:spPr>
          <a:xfrm>
            <a:off x="6629400" y="4952880"/>
            <a:ext cx="190512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he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work was confirmed by other scientis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rn cell theory has 3 par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organisms are composed of one or more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 is the basic unit of organization (structure and function) in org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ells come from preexisting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y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me means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 nucleu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nucleus or other structure surrounded by a membr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itiv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ly precursors to chloroplasts and mitochond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 archaea &amp; eu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rocaryote"/>
          <p:cNvPicPr/>
          <p:nvPr/>
        </p:nvPicPr>
        <p:blipFill>
          <a:blip r:embed="rId1"/>
          <a:stretch/>
        </p:blipFill>
        <p:spPr>
          <a:xfrm>
            <a:off x="5291280" y="228600"/>
            <a:ext cx="3852720" cy="4419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General%20Bacteria"/>
          <p:cNvPicPr/>
          <p:nvPr/>
        </p:nvPicPr>
        <p:blipFill>
          <a:blip r:embed="rId2"/>
          <a:stretch/>
        </p:blipFill>
        <p:spPr>
          <a:xfrm>
            <a:off x="5867280" y="4584600"/>
            <a:ext cx="22860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y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me means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e nucleu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ucleus and other structures surrounded by membra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 animals, plants, fungi, protists (Eukary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animalcell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713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ells"/>
          <p:cNvPicPr/>
          <p:nvPr/>
        </p:nvPicPr>
        <p:blipFill>
          <a:blip r:embed="rId2"/>
          <a:stretch/>
        </p:blipFill>
        <p:spPr>
          <a:xfrm>
            <a:off x="152280" y="4498920"/>
            <a:ext cx="3886200" cy="2359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lant%20cell72-1"/>
          <p:cNvPicPr/>
          <p:nvPr/>
        </p:nvPicPr>
        <p:blipFill>
          <a:blip r:embed="rId3"/>
          <a:stretch/>
        </p:blipFill>
        <p:spPr>
          <a:xfrm>
            <a:off x="5257800" y="3727440"/>
            <a:ext cx="33526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ukaryotic/Animal Cells and their Organell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s://www.youtube.com/watch?v=MfopLilIO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2:15:29Z</dcterms:created>
  <dc:creator>Zebulon Holsopple</dc:creator>
  <dc:description/>
  <dc:language>en-US</dc:language>
  <cp:lastModifiedBy>Geneva Jost</cp:lastModifiedBy>
  <dcterms:modified xsi:type="dcterms:W3CDTF">2016-10-31T17:51:37Z</dcterms:modified>
  <cp:revision>19</cp:revision>
  <dc:subject>Biology Honors</dc:subject>
  <dc:title>1.1.1_Notes_IntroductionToCells</dc:title>
</cp:coreProperties>
</file>